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8E09-A219-417E-B6CB-4B52913F3BA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A1B4-31BC-4C3B-AAB5-8314E1C5A12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FF54-88EA-4639-A290-F7BBBF3C4D9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87B6-60D3-48FB-A83E-B888361B077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F1E6-C372-43CE-91B1-6C792DE3706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AE938-4049-4F5E-A689-B30588B67CD3}"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19DC-A27D-458C-98E5-DFF842504C7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BEB6-6019-4EDA-9DF1-5CE33811557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DF51-CCB2-47F5-823F-A8AC60E2CBB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4DE1-60C6-4CC8-AA19-2D6CD3D4A26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9F59C-ABB9-4FE7-A159-409B4EDA4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B7B78-F3ED-491A-B9FE-38F374C39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463E4C-B566-41C1-923E-FD1F4296F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72B26-8511-4091-B227-89D830916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A4EAC-8FE2-43AC-8FDE-967B1CE9C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53938-4BB8-4C6C-8551-93431A8F6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BDB2F-CEA5-45A7-8D6B-3853B04DD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1978F-E6B6-44F0-A3B0-F190D9140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A11A3-81CC-4BE0-BFAF-AB02651C0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70DF6-A819-434F-9357-CF27DA89E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55625-1552-4437-BD03-C2A0926D3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E1AE-FD54-4EC4-8270-723384EAC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52FC-075E-4DDA-891C-A0C3B1E1744A}"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4-05-26T13:51:19Z</dcterms:modified>
  <cp:revision>26</cp:revision>
  <dc:subject/>
  <dc:title>Countries</dc:title>
</cp:coreProperties>
</file>